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5FC-A425-4CA4-AEB2-74DF80A5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CAA-94E2-49C5-A2A3-A454CACE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AC0-689F-411B-AF8F-431ECBDE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A9E-D726-467B-8307-453620C6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8B2-6839-497C-962E-0EA65CE3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2AF-156D-4E30-B779-DB4E0FE7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EE7-1102-4911-89A5-28DFF5C7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177-0F0F-4BAF-9D2B-9C46320A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7EC-0515-4730-A15C-74A46EE2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D88-7D33-4CDE-81CF-88F347A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481-524D-45A0-A506-EC6EEF6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2DB-F417-4020-A4D1-1CD7EE4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EDD6-293E-411E-9B9D-BDC513DC3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95120" y="6508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70200"/>
            <a:ext cx="932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rs. Lynne Weathers Su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ond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 fantastic this school year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ea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students talking in the hallway early in the mo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e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their wonderful energy every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ne of my students to learn as much as they possibly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ir 3rd grade teacher Mrs. Su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1000" y="650880"/>
            <a:ext cx="85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prete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be busy doing my work while I’m secretly watc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fee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 strongly they want to be at their best this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tou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airs as I pull them off the tops of desks read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rt a new school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or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may not enjoy what we are learning for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 that I will try my best to make each school day full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eat joys and learning experien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ir 3rd grade teacher Mrs. Su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7680" y="4191120"/>
            <a:ext cx="862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underst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to make this year wonderful we must all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r be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a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ds to encourage my students so they know how much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e about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rea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this school year will be the best ever for both my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the k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36640" y="60948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it’s your challen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09680"/>
            <a:ext cx="866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job is to use the worksheet 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create a meaningful I poem that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urately descri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how you 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ngs in your life.  Give us a great, deta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ight into your life.  Remember, writ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chance to share your personal feeling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6240" y="5908680"/>
            <a:ext cx="81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**We do plan on sharing these in class, so make them g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29:21Z</dcterms:created>
  <dc:creator>User</dc:creator>
  <dc:description/>
  <dc:language>en-US</dc:language>
  <cp:lastModifiedBy>Rutherford County Schools</cp:lastModifiedBy>
  <dcterms:modified xsi:type="dcterms:W3CDTF">2007-04-21T15:49:05Z</dcterms:modified>
  <cp:revision>1</cp:revision>
  <dc:subject/>
  <dc:title>No Slide Title</dc:title>
</cp:coreProperties>
</file>